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107D-744A-4035-89FB-CE991A491E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C661-ED40-4454-93A5-EDB3F336ABA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1513-0AC4-4419-B1D1-2EDEF9B961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C591-9468-4AE0-ACD6-F47F9903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4A7-9A25-4363-A53D-8EA48A64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35BE4-BC6E-4CB4-931E-A15BF5FD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72AA4-A573-4949-8951-D95B9B5A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78920" y="179280"/>
            <a:ext cx="79218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7DBBE-5568-44A2-8996-59B5F018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2EE9C-55C3-4FA2-8F1B-3EABDF30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35961-BEF1-43F3-B39C-D998A489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6D7FB-4777-4696-92DE-B59B1034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513AC-AC72-4F36-B4B4-1FCA2E6F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13B33-79CB-4172-BAA0-14FAE39B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8573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53608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789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28573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53608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A31A3-1770-4366-B050-BE2BC4E2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78982-2A42-4962-B6A8-86125501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A6A-8C91-4363-954D-7D706E93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07951-7E5A-40DF-A3B8-EB4F163B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997A2-D585-45AD-98ED-47AAB95B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70B9F-11AA-41E6-A885-E5AB40DA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C82E2-54A5-48D9-B4DC-FC82A02C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78920" y="179280"/>
            <a:ext cx="79218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70199-1E21-44EE-8E84-3E9BC275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B2EA5-F33C-4EB8-BED3-9ABAD5EC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737E2-E818-4CF8-ACF5-ED117B44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8FAD5-06AF-4CB3-839F-A4ABD5A3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17D7E-213E-4853-828F-EC29B2C3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5DD22-8140-43FD-999C-7866CB96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573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3608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89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573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3608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5CF-8BCE-4230-8CAA-408E8B3B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28573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53608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789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28573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53608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D33B9-337E-41B0-997F-E0D38411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529C4-98DC-47D8-A600-131DC879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5AB42-AE2A-4770-9570-1D2502E1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D9E41-BF49-455F-AEF7-D7447ED0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D17B9-F4DD-49A6-AA10-EC67D87B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532D6-E508-420B-A08D-CEFEE88B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78920" y="179280"/>
            <a:ext cx="79218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5A3DE-01C4-4911-86EB-58C39FDA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A6FD6-B767-4592-860C-F2C62372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85F43-C8B6-4038-B9FD-4E932E06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1057E-E5C9-4ED1-AF54-572FE8C4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C0253-9DB5-4CAC-8445-9DE838EC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15A39-95A1-4B59-9146-7832E00C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28573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53608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789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28573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53608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07F85-2612-47D7-ABBB-C4CA0B02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AE756-E689-4FFC-AA78-9D10AD51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0F27D-23F0-4578-9AA3-056F9643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72EB9-079A-4AD3-82B2-1CE087F5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CA616-6ED1-4F45-AFD2-A5FCDDF0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42DFF-9FB9-44D0-BA14-E5F6C827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78920" y="179280"/>
            <a:ext cx="79218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214EC-E515-414C-A9CF-227219C3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6AD96-56FD-491D-B391-A0B474C4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B11C3-CED0-4A2C-9B5D-3C6718F8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7814E-654B-4AC4-9B3E-D603446B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54EED-71A2-4C4F-912D-F2C1E8F1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026B0-3256-40F7-A8B5-CE4E5533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28573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53608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789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28573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53608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17536-0F83-4DE4-A99A-DEA7F1DA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8920" y="179280"/>
            <a:ext cx="79218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338-915C-4713-B3B3-43EB8E1A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573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3608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789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573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3608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237C-3704-47B9-BDBE-7AE8A490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6DAD-C9F9-460E-80FA-C478E22F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3F58-40E0-43CD-ABE2-ADC3A4E5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860D-A483-489F-932E-B5394F50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2D00-5774-4AA5-A77E-0C55FDF5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CA8-A601-4B9E-9BEE-343A2D50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78920" y="179280"/>
            <a:ext cx="79218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E4CE-E63C-414F-A01B-1E2D38C2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1F37-89EC-4327-95C3-1CEC5245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1BE0-BDA4-4B60-B7E0-541B4C3C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9B19-E809-4776-B2CC-E6B699D7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528B-BFEF-45D6-AEA4-9D98BCFA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0482-4FCA-4B7C-9A3B-CD74DEBE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8573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53608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789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8573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53608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F40E-C7A7-438F-9702-4019AE96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D516-2316-41B3-A002-FC06CB10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D268C-89B9-4663-BB74-D3E1E882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4F57-E720-431B-83F0-04CDDDF2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41A-30E5-42B6-A030-40B48C17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5B4D5-0DA3-41B4-AD66-474D6A35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6DF62-3187-4E25-9946-20BA6C83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8920" y="179280"/>
            <a:ext cx="79218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023C-D43A-4DB7-9B55-1D665DC0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96EDC-FC2E-41F8-A2C2-B5B7DFC7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078C-E855-47A8-A697-26BF2F4F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A7C3-D786-4053-9184-CC764850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78F2E-50BE-448D-AC5B-DCC08258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C3105-4B3B-49ED-8BDC-C7E0AB1C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8573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53608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789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28573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53608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EB859-66B0-49B1-933C-5B349728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77D78-2C5A-4A26-9FB7-DE096F98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46D-0A31-4DD7-96E5-E923814C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A0F0B-847D-4235-87A2-5A96CC80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32156-A7B0-4426-82C9-58136BCA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159AA-D7CD-4284-A9FF-44C22D7D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8FE36-DFC6-4CFA-A72C-13E7A5EF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78920" y="179280"/>
            <a:ext cx="79218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6B9B7-13A7-4157-8B8F-828A5C10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393E1-B4E7-4C3D-99CE-55FBA212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E0C1E-9B36-42D9-A47F-FAA87908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28AD2-5648-4642-958B-0A383BBE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48327-95DF-407A-A314-E9147596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F91D2-4848-4475-98BE-27441C48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79280"/>
            <a:ext cx="79218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011-32E9-49F8-8A33-68E88ED7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8573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3608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789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28573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53608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B8FEF-DFBE-4FF0-A9CA-0A75AF25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781A2-1625-42E7-966B-AF2074A6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EA486-E61D-40D6-A17B-68804A81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81062-6B1E-44F7-BCE3-09B26ECD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D242E-DD6F-4B93-A017-6CB569D1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4983F-E084-469E-A48B-7B5B2CE2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78920" y="179280"/>
            <a:ext cx="79218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A5FBD-F651-4F2A-9A1D-1D9F0217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19FEA-87F7-4998-B73D-2543A51B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1D144-B370-453A-BCB0-95113A52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8348D-645A-462D-A05D-7FF918B3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C1F-FB7D-4917-9402-C73D28C3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3411A-7769-4FCA-B6A7-08D4CB0D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21392-F18F-4310-90BA-1DD86A85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8573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53608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789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8573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53608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22019-0DEA-422C-B9FE-128248AD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9CE86-347F-4ECF-8BAB-DD34FE67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47DBC-C322-4CE7-B8DB-A986666E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28E0E-3722-441F-B26F-D36AC9F4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B1B16-8579-4D14-B76B-5C904AFF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5D737-F079-4E9E-98AB-CF969238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78920" y="179280"/>
            <a:ext cx="79218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A2115-B982-4C80-AE97-597C3BA2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79363-A32F-4DF0-A47D-411B795F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ACB-3AD9-46AB-887D-85EC0FB9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5DE50-7D72-44D3-A72F-589270C5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B5158-FDDF-4A4A-ABD1-A8CD3C5C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8DB1F-DA95-4FEF-B192-853CEA43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DACB9-F95E-4B17-8750-641DA12A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8573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53608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789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28573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53608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229FD-C64C-47EC-B307-851E5633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F0E49-DF38-438C-9283-F156E85F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B31E9-863C-4339-B576-3CC43D0C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6DA46-DF63-4C1D-96D6-FB5738FA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290CF-2E3E-42ED-A5BF-210E35A3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18DE3-0668-434E-ACC7-D4391BB8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15A-2936-43AC-AC96-16609952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78920" y="179280"/>
            <a:ext cx="79218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9409C-ED67-4D8F-9B08-F5F3EB30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4A2E4-34B6-40D6-AE1F-3D7B75A3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77620-95B3-4211-9A40-35F53149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02F6C-3A9F-4F05-BB04-76110BA9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78920" y="3126240"/>
            <a:ext cx="79218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EDBC1-BD87-4CC7-8741-20FCA8B7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38280" y="10256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7892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238280" y="3126240"/>
            <a:ext cx="38656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1F43A-5335-4802-9B48-6C03CA98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85732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36080" y="10256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789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285732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536080" y="3126240"/>
            <a:ext cx="255060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0334B-3ED6-4E79-A70B-7CB0697C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AD044-DAD5-4B44-87B5-29358EF6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F2355-DF61-4C63-A0D5-A91C3153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6E955-CC84-47C4-9A6B-A6E408CE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8928000" cy="6305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6840" indent="-1868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68800" indent="-1929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942840" indent="-18540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68280" indent="-1335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604160" indent="-1472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480" y="6597720"/>
            <a:ext cx="117144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DB0A-2F60-4816-A168-7ED478C828BF}" type="datetime3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29. července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332000" y="6597720"/>
            <a:ext cx="648000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2750-2805-4A8B-BE63-DAB003CC5EA6}" type="slidenum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108000" y="6524640"/>
            <a:ext cx="8928000" cy="0"/>
          </a:xfrm>
          <a:prstGeom prst="line">
            <a:avLst/>
          </a:prstGeom>
          <a:ln w="19080">
            <a:solidFill>
              <a:srgbClr val="d27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6840" indent="-1868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68800" indent="-1929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942840" indent="-18540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68280" indent="-1335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604160" indent="-1472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87480" y="6597720"/>
            <a:ext cx="117144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0523-62AE-4AF8-9869-677D6B9104C6}" type="datetime3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29. července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332000" y="6597720"/>
            <a:ext cx="648000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0527-6D0F-4B57-96EA-8A84976DE600}" type="slidenum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6840" indent="-1868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68800" indent="-1929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942840" indent="-18540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68280" indent="-1335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604160" indent="-1472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87480" y="6597720"/>
            <a:ext cx="117144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5D07-7D53-4CC9-911A-D9BD55D679DE}" type="datetime3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29. července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1332000" y="6597720"/>
            <a:ext cx="648000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1B5E-40F0-48A2-B115-3ACCB89F254A}" type="slidenum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6840" indent="-1868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68800" indent="-1929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942840" indent="-18540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68280" indent="-1335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604160" indent="-1472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87480" y="6597720"/>
            <a:ext cx="117144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044F-A2F6-47AB-A35C-6111B87AE121}" type="datetime3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29. července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1332000" y="6597720"/>
            <a:ext cx="648000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1074-234B-4F80-94D6-6AFF967CCC41}" type="slidenum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8928000" cy="6305400"/>
          </a:xfrm>
          <a:prstGeom prst="rect">
            <a:avLst/>
          </a:prstGeom>
          <a:ln w="0">
            <a:noFill/>
          </a:ln>
        </p:spPr>
      </p:pic>
      <p:sp>
        <p:nvSpPr>
          <p:cNvPr id="44" name="Line 8"/>
          <p:cNvSpPr/>
          <p:nvPr/>
        </p:nvSpPr>
        <p:spPr>
          <a:xfrm>
            <a:off x="108000" y="6524640"/>
            <a:ext cx="8928000" cy="0"/>
          </a:xfrm>
          <a:prstGeom prst="line">
            <a:avLst/>
          </a:prstGeom>
          <a:ln w="19080">
            <a:solidFill>
              <a:srgbClr val="d27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6840" indent="-1868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68800" indent="-1929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942840" indent="-18540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68280" indent="-1335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604160" indent="-1472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6840" indent="-1868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68800" indent="-1929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942840" indent="-18540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68280" indent="-1335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604160" indent="-1472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87480" y="6597720"/>
            <a:ext cx="117144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1B91-FAEC-442B-A9A6-63689602C395}" type="datetime3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29. července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1332000" y="6597720"/>
            <a:ext cx="648000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E594-FDDC-461D-BC44-4A1E349F192B}" type="slidenum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6840" indent="-1868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68800" indent="-1929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942840" indent="-18540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68280" indent="-1335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604160" indent="-1472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87480" y="6597720"/>
            <a:ext cx="117144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143A-FE71-4552-AAF5-D48DD5A0B31C}" type="datetime3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29. července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332000" y="6597720"/>
            <a:ext cx="648000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0376-9614-44C8-9589-7CAD0380DA84}" type="slidenum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6840" indent="-1868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68800" indent="-1929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942840" indent="-18540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68280" indent="-1335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604160" indent="-1472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7480" y="6597720"/>
            <a:ext cx="117144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BD52-E8B2-4BAB-B1C0-744DE5099D32}" type="datetime3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29. července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1332000" y="6597720"/>
            <a:ext cx="648000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B871-B5DE-4D91-AA36-7AC0192858BB}" type="slidenum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6840" indent="-1868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68800" indent="-1929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942840" indent="-18540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68280" indent="-1335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604160" indent="-1472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87480" y="6597720"/>
            <a:ext cx="117144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8E7D-C8F6-4103-A75C-1A15E8F02EED}" type="datetime3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29. července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1332000" y="6597720"/>
            <a:ext cx="648000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FC8B-079E-40D0-8DD8-DBD23271B524}" type="slidenum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6840" indent="-1868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68800" indent="-1929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942840" indent="-18540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68280" indent="-1335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604160" indent="-1472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87480" y="6597720"/>
            <a:ext cx="117144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1975-384E-4E60-83F9-3E3158DAEBE1}" type="datetime3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29. července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1332000" y="6597720"/>
            <a:ext cx="648000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1CC0-8FAB-4564-A93E-AFFA4DBC6331}" type="slidenum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6840" indent="-1868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68800" indent="-1929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942840" indent="-18540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68280" indent="-1335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604160" indent="-1472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87480" y="6597720"/>
            <a:ext cx="117144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9C42-C954-4183-B395-BE9AE78D1B7B}" type="datetime3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29. července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1332000" y="6597720"/>
            <a:ext cx="648000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2E59-9ECC-4921-8081-91CB2F7C5841}" type="slidenum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7921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78920" y="1025640"/>
            <a:ext cx="792180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86840" indent="-1868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568800" indent="-1929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942840" indent="-18540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68280" indent="-13356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604160" indent="-147240">
              <a:spcBef>
                <a:spcPts val="400"/>
              </a:spcBef>
              <a:spcAft>
                <a:spcPts val="400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604160" indent="-14724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87480" y="6597720"/>
            <a:ext cx="117144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2345-CCC6-4EB4-A4F7-63BAD06026D0}" type="datetime3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29. července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1332000" y="6597720"/>
            <a:ext cx="648000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800" spc="-1" strike="noStrike">
                <a:solidFill>
                  <a:srgbClr val="d273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7569-9C6B-4DEA-ACF4-B037938F1C47}" type="slidenum">
              <a:rPr b="1" lang="cs-CZ" sz="800" spc="-1" strike="noStrike">
                <a:solidFill>
                  <a:srgbClr val="d2731d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Verdana"/>
              </a:rPr>
              <a:t>Zelená kniha ČSSD pro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Verdana"/>
              </a:rPr>
              <a:t>oblast vzdělávání</a:t>
            </a:r>
            <a:br>
              <a:rPr sz="3600"/>
            </a:br>
            <a:br>
              <a:rPr sz="3600"/>
            </a:b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Motto: </a:t>
            </a:r>
            <a:r>
              <a:rPr b="1" i="1" lang="cs-CZ" sz="3200" spc="-1" strike="noStrike">
                <a:solidFill>
                  <a:srgbClr val="ffffff"/>
                </a:solidFill>
                <a:latin typeface="Verdana"/>
              </a:rPr>
              <a:t>„Kvalitní vzdělání dostupné všem“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hDr. Marcel Chládek, MBA</a:t>
            </a:r>
            <a:br>
              <a:rPr sz="2000"/>
            </a:b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stínový ministr školství</a:t>
            </a:r>
            <a:br>
              <a:rPr sz="2000"/>
            </a:br>
            <a:br>
              <a:rPr sz="36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0" y="5950080"/>
            <a:ext cx="896472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hotel Olšan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Kongresové cent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1.3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7854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Další vzdělávání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79280" y="836640"/>
            <a:ext cx="864072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275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Vzdělávání po opuštění páteřní školské soustavy prožívá od počátku nového století bouřlivý rozvoj 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75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75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Oblast dalšího vzdělávání </a:t>
            </a: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by měla být v gesci MŠMT, které by mělo vytvořit koordinovaný systém celoživotního vzdělávání.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Mělo by také </a:t>
            </a: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garantovat celostátní certifikační systém lektorů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, kteří se v současné době pohybují ve vzdělávání dospělých bez jakéhokoliv omezení 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75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75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Oblast dalšího vzdělávání je zároveň příležitostí pro střední a vysoké školy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, které tímto způsobem mohou vyrovnat volné kapacity, jež vznikly poklesem počtu žáků a studentů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75"/>
              </a:spcBef>
              <a:spcAft>
                <a:spcPts val="275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Zástupný symbol pro číslo snímku 4"/>
          <p:cNvSpPr/>
          <p:nvPr/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540D-C1C4-4188-83EC-CA5B403D81DF}" type="slidenum">
              <a:rPr b="1" lang="cs-CZ" sz="800" spc="-1" strike="noStrike">
                <a:solidFill>
                  <a:srgbClr val="d2731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0" y="5950080"/>
            <a:ext cx="896472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hotel Olšan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Kongresové cent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1.3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7854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Souhrn návrhů ČSSD v oblasti vzdělávání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78920" y="691920"/>
            <a:ext cx="8496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224"/>
              </a:spcBef>
              <a:spcAft>
                <a:spcPts val="224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Verdana"/>
              </a:rPr>
              <a:t>Předškolní vzdělávání by mělo být bezplatné a poslední rok tohoto druhu vzdělávání ze zákona povinný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24"/>
              </a:spcBef>
              <a:spcAft>
                <a:spcPts val="224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Verdana"/>
              </a:rPr>
              <a:t>Je třeba přepracovat ministerský návrh reformy financování regionálního školství, který hrozí zrušením až 80 % venkovských škol a tedy vylidnění venkova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24"/>
              </a:spcBef>
              <a:spcAft>
                <a:spcPts val="224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Verdana"/>
              </a:rPr>
              <a:t>Kompletní přepracování státních maturi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24"/>
              </a:spcBef>
              <a:spcAft>
                <a:spcPts val="224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Verdana"/>
              </a:rPr>
              <a:t>Nastavit správně a systémově testování v 5. a 9. třídách ZŠ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24"/>
              </a:spcBef>
              <a:spcAft>
                <a:spcPts val="224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Verdana"/>
              </a:rPr>
              <a:t>Platy vyučujících musí být kompetitivní s platy v ostatních sektorech hospodářství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24"/>
              </a:spcBef>
              <a:spcAft>
                <a:spcPts val="224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Verdana"/>
              </a:rPr>
              <a:t>Kde to půjde, je nutné integrovat VOŠ do systému vysokého školství na bakalářském stupni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24"/>
              </a:spcBef>
              <a:spcAft>
                <a:spcPts val="224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Verdana"/>
              </a:rPr>
              <a:t>ČSSD navrhuje připravit alternativní návrh vysokoškolského zákona, a to napříč politickým spektrem a s využitím odborníků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24"/>
              </a:spcBef>
              <a:spcAft>
                <a:spcPts val="224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Verdana"/>
              </a:rPr>
              <a:t>ČSSD odmítá zavedení školného na veřejných vysokých školách v jakékoliv podobě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24"/>
              </a:spcBef>
              <a:spcAft>
                <a:spcPts val="224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Verdana"/>
              </a:rPr>
              <a:t>Oblast dalšího vzdělávání by měla být v gesci MŠM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Zástupný symbol pro číslo snímku 4"/>
          <p:cNvSpPr/>
          <p:nvPr/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AD00-3779-4514-8C0C-FE3D990BD240}" type="slidenum">
              <a:rPr b="1" lang="cs-CZ" sz="800" spc="-1" strike="noStrike">
                <a:solidFill>
                  <a:srgbClr val="d2731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0" y="5950080"/>
            <a:ext cx="896472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hotel Olšan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Kongresové cent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1.3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64072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Kvalitní vzdělání dostupné vše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Zástupný symbol pro číslo snímku 4"/>
          <p:cNvSpPr/>
          <p:nvPr/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E30A-5495-4751-98D9-EA41D76CE329}" type="slidenum">
              <a:rPr b="1" lang="cs-CZ" sz="800" spc="-1" strike="noStrike">
                <a:solidFill>
                  <a:srgbClr val="d2731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Zástupný symbol pro obsah 2"/>
          <p:cNvSpPr/>
          <p:nvPr/>
        </p:nvSpPr>
        <p:spPr>
          <a:xfrm>
            <a:off x="324000" y="1052640"/>
            <a:ext cx="8351640" cy="44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3600" indent="-36360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2300" spc="-1" strike="noStrike">
                <a:solidFill>
                  <a:srgbClr val="ffffff"/>
                </a:solidFill>
                <a:latin typeface="Verdana"/>
              </a:rPr>
              <a:t>ČSSD si uvědomuje mimořádný význam oblasti vzdělávání a považuje ji za svoji priorit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2300" spc="-1" strike="noStrike">
                <a:solidFill>
                  <a:srgbClr val="ffffff"/>
                </a:solidFill>
                <a:latin typeface="Verdana"/>
              </a:rPr>
              <a:t>Současný systém školství v ČR je výrazně             a dlouhodobě podfinancován (což dokazuje        i zpráva OECD) a vedení resortu není schopno ani efektivně čerpat prostředky z E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2300" spc="-1" strike="noStrike">
                <a:solidFill>
                  <a:srgbClr val="ffffff"/>
                </a:solidFill>
                <a:latin typeface="Verdana"/>
              </a:rPr>
              <a:t>Neprovázanost jednotlivých segmentů               a nekoncepční řešení v režii současného vládního kabinetu ohrožuje stávající systém ve všech jeho oblaste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0" y="5950080"/>
            <a:ext cx="896472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hotel Olšan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Kongresové cent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1.3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7854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Verdana"/>
              </a:rPr>
              <a:t>Základní principy přístupu ČSSD ke vzdělávání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250920" y="1268280"/>
            <a:ext cx="864216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349"/>
              </a:spcBef>
              <a:spcAft>
                <a:spcPts val="1199"/>
              </a:spcAft>
              <a:buClr>
                <a:srgbClr val="f4f4f4"/>
              </a:buClr>
              <a:buFont typeface="Arial"/>
              <a:buChar char="•"/>
              <a:tabLst>
                <a:tab algn="l" pos="3636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ultivace jedince i prospěch společnosti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349"/>
              </a:spcBef>
              <a:spcAft>
                <a:spcPts val="1199"/>
              </a:spcAft>
              <a:buClr>
                <a:srgbClr val="f4f4f4"/>
              </a:buClr>
              <a:buFont typeface="Arial"/>
              <a:buChar char="•"/>
              <a:tabLst>
                <a:tab algn="l" pos="3636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ociální soudržnost a solidarita 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349"/>
              </a:spcBef>
              <a:spcAft>
                <a:spcPts val="1199"/>
              </a:spcAft>
              <a:buClr>
                <a:srgbClr val="f4f4f4"/>
              </a:buClr>
              <a:buFont typeface="Arial"/>
              <a:buChar char="•"/>
              <a:tabLst>
                <a:tab algn="l" pos="3636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pravedlivý přístup ke vzdělání 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349"/>
              </a:spcBef>
              <a:spcAft>
                <a:spcPts val="1199"/>
              </a:spcAft>
              <a:buClr>
                <a:srgbClr val="f4f4f4"/>
              </a:buClr>
              <a:buFont typeface="Arial"/>
              <a:buChar char="•"/>
              <a:tabLst>
                <a:tab algn="l" pos="3636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zmanitost individuálních cest ve stabilním prostředí 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349"/>
              </a:spcBef>
              <a:spcAft>
                <a:spcPts val="1199"/>
              </a:spcAft>
              <a:buClr>
                <a:srgbClr val="f4f4f4"/>
              </a:buClr>
              <a:buFont typeface="Arial"/>
              <a:buChar char="•"/>
              <a:tabLst>
                <a:tab algn="l" pos="3636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Finanční udržitelnost a efektivnos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349"/>
              </a:spcBef>
              <a:spcAft>
                <a:spcPts val="1199"/>
              </a:spcAft>
              <a:buClr>
                <a:srgbClr val="f4f4f4"/>
              </a:buClr>
              <a:buFont typeface="Arial"/>
              <a:buChar char="•"/>
              <a:tabLst>
                <a:tab algn="l" pos="3636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omplexní přístup ke vzdělávací politic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3636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Zástupný symbol pro číslo snímku 4"/>
          <p:cNvSpPr/>
          <p:nvPr/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F632-4EDA-413E-9285-124C8150A36E}" type="slidenum">
              <a:rPr b="1" lang="cs-CZ" sz="800" spc="-1" strike="noStrike">
                <a:solidFill>
                  <a:srgbClr val="d2731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5950080"/>
            <a:ext cx="896472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hotel Olšan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Kongresové cent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1.3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7854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Předškolní vzdělávání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79280" y="1025640"/>
            <a:ext cx="8569440" cy="51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Oblast je třeba brát jako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základní kámen vzdělávací soustavy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, který má klíčový význam při utváření osobnosti      a úspěšném zařazení do společnost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ředškolní vzdělávání by mělo být bezplatné a poslední rok tohoto druhu vzdělávání ze zákona povinný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ředškolní zařízení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nelze transformovat na pouhou hlídací či odkládací službu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(např. prostřednictvím tzv. dětských skupin či sousedského hlídání)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Kvůli špatné finanční situaci předškolních zařízení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navrhujeme zřídit státní fond bezúročných půjček či státní investiční fond na budování a rekonstrukce vzdělávacích zařízení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, ze kterého by se výstavba těchto zařízení spolufinancoval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spcAft>
                <a:spcPts val="249"/>
              </a:spcAft>
              <a:buClr>
                <a:srgbClr val="f4f4f4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Zástupný symbol pro číslo snímku 4"/>
          <p:cNvSpPr/>
          <p:nvPr/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2C38-EB17-4FD0-8B4B-41FF83737070}" type="slidenum">
              <a:rPr b="1" lang="cs-CZ" sz="800" spc="-1" strike="noStrike">
                <a:solidFill>
                  <a:srgbClr val="d2731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0" y="5950080"/>
            <a:ext cx="896472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hotel Olšan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Kongresové cent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1.3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Základní a střední vzdělávání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79280" y="764640"/>
            <a:ext cx="8640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Je třeba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řepracovat ministerský návrh reformy financování regionálního školství, který hrozí zrušením až 80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% venkovsk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ých škol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a tedy vylidnění venkova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Je nutné pevně zvážit koncepci ministrem plánovaného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testování žáků 5. a 9. tříd základních škol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, protože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hrozí, že se žáci stanou otroky těchto testů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a látka, která není jejich součástí, se bude při výuce zanedbávat, jak se stalo například v US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Státní maturita se neosvědčila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, je to jen předražený administrativní moloch, který stojí daňové poplatníky stovky milionů koru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ůraz na systém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učňovského školství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Zástupný symbol pro číslo snímku 4"/>
          <p:cNvSpPr/>
          <p:nvPr/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233E-7843-4547-A3E0-D0B000821ECA}" type="slidenum">
              <a:rPr b="1" lang="cs-CZ" sz="800" spc="-1" strike="noStrike">
                <a:solidFill>
                  <a:srgbClr val="d2731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5950080"/>
            <a:ext cx="896472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hotel Olšan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Kongresové cent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1.3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7854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Pedagogové a nepedagogové na ZŠ a SŠ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79280" y="1025280"/>
            <a:ext cx="86407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3636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ouhlasíme s experty OECD, že je nutné připravit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standardy pro učitelské povolání, a to v součinnosti s vysokými školami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, pedagog by ale měl mít možnost se dále vzdělávat      i v průběhu prax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3636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3636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laty vyučujících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musí být kompetitivní s platy v ostatních sektorech hospodářství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s cílem k roku 2020 dosáhnout průměrného platu učitele základní (střední) školy ve výši průměrného platu vysokoškoláka.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3636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buClr>
                <a:srgbClr val="f4f4f4"/>
              </a:buClr>
              <a:buFont typeface="Arial"/>
              <a:buChar char="•"/>
              <a:tabLst>
                <a:tab algn="l" pos="3636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Je třeba připravit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kariérní řád pro pedagogické pracovníky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spcAft>
                <a:spcPts val="249"/>
              </a:spcAft>
              <a:buClr>
                <a:srgbClr val="f4f4f4"/>
              </a:buClr>
              <a:buFont typeface="Arial"/>
              <a:buChar char="•"/>
              <a:tabLst>
                <a:tab algn="l" pos="3636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49"/>
              </a:spcBef>
              <a:spcAft>
                <a:spcPts val="249"/>
              </a:spcAft>
              <a:buClr>
                <a:srgbClr val="f4f4f4"/>
              </a:buClr>
              <a:buFont typeface="Arial"/>
              <a:buChar char="•"/>
              <a:tabLst>
                <a:tab algn="l" pos="36360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Zefektivnit systém finančního ohodnocení pedagogů, ale stejně tak i nepedagogů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, jejichž platy jsou velmi nízké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Zástupný symbol pro číslo snímku 4"/>
          <p:cNvSpPr/>
          <p:nvPr/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F3D9-589E-449B-B716-8FFEDA7B9FD3}" type="slidenum">
              <a:rPr b="1" lang="cs-CZ" sz="800" spc="-1" strike="noStrike">
                <a:solidFill>
                  <a:srgbClr val="d2731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0" y="5950080"/>
            <a:ext cx="896472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hotel Olšan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Kongresové cent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1.3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78544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yšší odborné vzdělávání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79280" y="1025640"/>
            <a:ext cx="864072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300"/>
              </a:spcBef>
              <a:spcAft>
                <a:spcPts val="300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šší odborné školy mají ve vzdělávací soustavě své místo za předpokladu systémového zapojení do sítě škol. Zastavily se však někde uprostřed cesty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300"/>
              </a:spcBef>
              <a:spcAft>
                <a:spcPts val="300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300"/>
              </a:spcBef>
              <a:spcAft>
                <a:spcPts val="300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de to půjde, je proto nutné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integrovat VOŠ do systému vysokého školství na bakalářském stupni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300"/>
              </a:spcBef>
              <a:spcAft>
                <a:spcPts val="300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300"/>
              </a:spcBef>
              <a:spcAft>
                <a:spcPts val="300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e většině případů však je spíše na místě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zvážit vytvoření plnohodnotného druhého stupně středoškolského vzdělávání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i zachování prostupnosti vzdělávacího systému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300"/>
              </a:spcBef>
              <a:spcAft>
                <a:spcPts val="300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Zástupný symbol pro číslo snímku 4"/>
          <p:cNvSpPr/>
          <p:nvPr/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C5A9-6DFB-4AF1-858B-9D72600EAE04}" type="slidenum">
              <a:rPr b="1" lang="cs-CZ" sz="800" spc="-1" strike="noStrike">
                <a:solidFill>
                  <a:srgbClr val="d2731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0" y="5950080"/>
            <a:ext cx="896472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hotel Olšan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Kongresové cent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1.3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ysokoškolské vzdělávání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79280" y="1025640"/>
            <a:ext cx="864072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300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ČSSD navrhuje připravit alternativní návrh vysokoškolského zákona s využitím odborníků   a ve spolupráci se všemi parlamentními stranami napříč politickým spektrem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300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300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Důraz na autonomii vysokých škol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, tedy odstranění závislosti rozpočtů veřejných vysokých škol na každoročním sestavování rozpočtu státního, která velmi omezuje strategický rozvoj škol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300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300"/>
              </a:spcBef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Prosazujeme naprostou nezávislost Akreditační komise ČR na ministerstvu a politických vlivech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Zástupný symbol pro číslo snímku 4"/>
          <p:cNvSpPr/>
          <p:nvPr/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6B32-AFE9-49AE-8608-6EC593F621E9}" type="slidenum">
              <a:rPr b="1" lang="cs-CZ" sz="800" spc="-1" strike="noStrike">
                <a:solidFill>
                  <a:srgbClr val="d2731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0" y="5950080"/>
            <a:ext cx="896472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hotel Olšan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Kongresové cent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1.3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8920" y="1792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Školné na veřejných vysokých školách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79280" y="1025640"/>
            <a:ext cx="8640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3600" indent="-363600">
              <a:spcBef>
                <a:spcPts val="286"/>
              </a:spcBef>
              <a:spcAft>
                <a:spcPts val="286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2300" spc="-1" strike="noStrike">
                <a:solidFill>
                  <a:srgbClr val="ffffff"/>
                </a:solidFill>
                <a:latin typeface="Verdana"/>
              </a:rPr>
              <a:t>ČSSD odmítá zavedení školného na veřejných vysokých školách v jakékoliv podobě</a:t>
            </a:r>
            <a:r>
              <a:rPr b="0" lang="cs-CZ" sz="2300" spc="-1" strike="noStrike">
                <a:solidFill>
                  <a:srgbClr val="ffffff"/>
                </a:solidFill>
                <a:latin typeface="Verdana"/>
              </a:rPr>
              <a:t>, neboť v žádném případě neřeší podfinancování vysokého školství, ani by nevedlo ke zvýšení kvality vysokoškolského vzdělávání či motivace studujících ke studiu</a:t>
            </a: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86"/>
              </a:spcBef>
              <a:spcAft>
                <a:spcPts val="286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86"/>
              </a:spcBef>
              <a:spcAft>
                <a:spcPts val="286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Verdana"/>
              </a:rPr>
              <a:t>Neexistují </a:t>
            </a:r>
            <a:r>
              <a:rPr b="1" lang="cs-CZ" sz="2300" spc="-1" strike="noStrike">
                <a:solidFill>
                  <a:srgbClr val="ffffff"/>
                </a:solidFill>
                <a:latin typeface="Verdana"/>
              </a:rPr>
              <a:t>žádné </a:t>
            </a:r>
            <a:r>
              <a:rPr b="0" lang="cs-CZ" sz="2300" spc="-1" strike="noStrike">
                <a:solidFill>
                  <a:srgbClr val="ffffff"/>
                </a:solidFill>
                <a:latin typeface="Verdana"/>
              </a:rPr>
              <a:t>studie, které by dokazovaly validitu těchto představ podporovatelů školného</a:t>
            </a: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86"/>
              </a:spcBef>
              <a:spcAft>
                <a:spcPts val="286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86"/>
              </a:spcBef>
              <a:spcAft>
                <a:spcPts val="286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cs-CZ" sz="2300" spc="-1" strike="noStrike">
                <a:solidFill>
                  <a:srgbClr val="ffffff"/>
                </a:solidFill>
                <a:latin typeface="Verdana"/>
              </a:rPr>
              <a:t>Školné by přineslo pouze zvýšení sociální bariéry pro studující z nízko a středně příjmových skupin</a:t>
            </a: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63600" indent="-363600">
              <a:spcBef>
                <a:spcPts val="286"/>
              </a:spcBef>
              <a:spcAft>
                <a:spcPts val="286"/>
              </a:spcAft>
              <a:buClr>
                <a:srgbClr val="f4f4f4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Zástupný symbol pro číslo snímku 4"/>
          <p:cNvSpPr/>
          <p:nvPr/>
        </p:nvSpPr>
        <p:spPr>
          <a:xfrm>
            <a:off x="7885080" y="6597720"/>
            <a:ext cx="11527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2427-04FA-4F9D-918A-8941C091A1AB}" type="slidenum">
              <a:rPr b="1" lang="cs-CZ" sz="800" spc="-1" strike="noStrike">
                <a:solidFill>
                  <a:srgbClr val="d2731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0" y="5950080"/>
            <a:ext cx="896472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hotel Olšan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Kongresové cent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1.3.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2:00:13Z</dcterms:created>
  <dc:creator>Petr Mrhálek</dc:creator>
  <dc:description/>
  <dc:language>en-US</dc:language>
  <cp:lastModifiedBy>jstoll</cp:lastModifiedBy>
  <dcterms:modified xsi:type="dcterms:W3CDTF">2012-03-21T11:14:58Z</dcterms:modified>
  <cp:revision>472</cp:revision>
  <dc:subject/>
  <dc:title>Programové priority ČSSD pro novou vládu ČR</dc:title>
</cp:coreProperties>
</file>